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B46E91D-6B96-4642-8559-3E9B471A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036-A26E-47CF-9B39-B00B2E58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ED1-937C-4CB0-9596-EF71582C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B27-92C4-42C5-891C-EA6DE9DA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B51-DCA2-4E78-A332-BBD77B65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D33D-20C0-4028-BF0C-1F5E933C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5E0-BA4D-4133-BEF4-266D4032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058D-C2CF-48B3-B7F9-4D073CE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1E33-2B1E-401A-954F-398FFF3B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2077-3844-45AD-8B5A-1AA422E4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6722-B0CE-4D9F-B002-8E8AEEF0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C460-BEA7-43AA-95AB-7F7E0708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ABD-C82E-49AF-882E-51400748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11AC-1D1D-45DD-98DF-639196E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A76F-7A0C-476D-BA39-72538570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4E51-6F1F-42EC-8E55-3C719920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C263-9C37-4777-BF46-772658A5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C6BF-B8D4-4434-BDAB-D284FB53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B32-FFBF-4BD5-A0B0-91D4BD53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227-DAA5-45C4-BD0D-0BE4C5EB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055-3145-47D8-A556-3033799B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611-FE20-41FF-89C6-91641F8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765-FFA7-48DA-BD27-871D22DF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62B-9344-4DBC-9235-80F5303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AB0-FAD2-4592-A75E-8EC3FBB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E260-29BD-4036-A362-EC110C9E9B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ED2C-1B1C-4B46-9E75-1D1CA60E9C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Monday, October 18, 2010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as the BEST part about fall br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HW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 2.1, probl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Broadway"/>
              </a:rPr>
              <a:t>Tuesday, October 19, 2010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 Work:  Write a conditional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HW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/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and Biconditiona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  Lesson 2.2, problems 3-19 ,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Z on Thursday, Section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800"/>
            </a:br>
            <a:r>
              <a:rPr b="0" lang="en-US" sz="3600" spc="-1" strike="noStrike">
                <a:solidFill>
                  <a:srgbClr val="330033"/>
                </a:solidFill>
                <a:latin typeface="Broadway"/>
              </a:rPr>
              <a:t>THursday, October 21, 2010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008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 Work:  Write the contrapositive:  If it thunders, then the golf tournament is cance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Z- (2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of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  Lesson 2.3, problems 1-13, 14-20 Even, 21-22,30-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roadway"/>
              </a:rPr>
              <a:t>Geometry 1</a:t>
            </a:r>
            <a:br>
              <a:rPr sz="4800"/>
            </a:br>
            <a:r>
              <a:rPr b="0" lang="en-US" sz="4000" spc="-1" strike="noStrike">
                <a:solidFill>
                  <a:srgbClr val="330033"/>
                </a:solidFill>
                <a:latin typeface="Broadway"/>
              </a:rPr>
              <a:t>Thursday, October 21, 2009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Create and critique valid and invalid conditional statements, their inverses, converses, and contrapos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work:  Write the symbols for a conditional , converse, inverse and contrapositive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- Lesson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MON-Lesson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 Unit 3 (Lesson 2.1-2.3)-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0-19T21:22:25Z</dcterms:modified>
  <cp:revision>54</cp:revision>
  <dc:subject/>
  <dc:title>Slide 1</dc:title>
</cp:coreProperties>
</file>